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A6C-7EF0-45A5-80C4-8D414FE8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DA4-87E5-4A14-A189-CA242AE2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E0F-2532-4C74-ACC4-6485FC4A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82C-7784-4A9E-9DED-4FCFE640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5A10-357E-4E40-AFF6-3BE42F2E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3808-4844-4FEC-83B2-E4D710C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1D4-9D60-4076-8A75-9678137E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2FA-D2EE-48DF-A35F-330392A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EC6D-5A16-4B0A-9FA8-AB3C0CD4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9582-C6CF-4BB2-A62E-0D7F7E15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1E23-723C-4608-B844-A0E6D4A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09E-8EE0-4FE7-99D4-8CFEF45F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B55-475D-4EE1-A37C-3A6E6F8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ED3F-714B-48A6-9F5B-6685A69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B70-55E3-4791-B2AB-6B729ABF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171-EEFC-4D5E-87FD-C6A7C4F2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D31A-0B53-4AB6-8993-FB703412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1337-8943-4236-929A-C9329247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E8D6-0889-49BE-AD1D-57B68507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97DE-C497-4909-BC89-754301BE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CEEC-57D4-4A4B-808B-1F4B938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CF10-784D-41C4-AF3F-A1E39E3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460-9604-4EA3-B379-06C8F6C1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71A6-EBB1-4C09-B113-EE43D72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13FA-BC76-4B01-91EB-634DD03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F9E1-3815-4005-BA2F-5F8792A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2C28-5B4F-4718-906F-747FE543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CB47-67EC-4FD3-A967-1D5A605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68B5-B268-4979-8F10-76442B2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6E0E-E40F-482E-90DD-95DC265D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21DCA-3C5B-46F8-9456-859CEC00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20E2-7177-49DA-B405-ABD21AB6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7E16-9576-4D9D-9CE7-46F15C5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0E5-1B17-4316-BFF6-A20D15E1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8508-9738-4873-B1ED-E30DC1CE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1688-D8EB-4687-BE07-96E0E86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CDF1-82AB-47C6-91ED-1FAA095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44A9-3129-4044-8AC6-F8DEC41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CEA1-5113-41AA-ABB4-3D96A62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3111-D7B2-4208-B16B-0ED259B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2968-3824-4237-9106-9B418737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B3E3-BB1A-4EAC-9B18-67DD991D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141B-A67C-4789-A2E3-EB0AAF5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865C-4777-49C2-80B4-A514569F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832-A308-48C6-9257-9E3489A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7648-1468-4490-9C30-19B7A86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37C0-A635-4B19-B350-08AF92C8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CD53-0B86-4E81-90D2-7545673E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7FC3-C87E-40E9-A5AC-FF053F6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D262-AD9A-4635-BC65-FB7E0D63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DDE76-5C4B-4903-ACF4-F65A6F7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E878-F794-4288-8C96-FF1EC56C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1DF1F-C269-4C91-93FE-1E2851D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CE09-AA56-4373-B262-E089540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4F86-E9C8-46FD-8097-770DA89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58B-F3DA-48D4-AF33-E1DFF71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C58F-3194-4FB4-AA5D-49721BB1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D5F-F3E9-473B-914B-A704DEDC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225-0CBD-4D63-9232-6467659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AD8-4D02-4BC7-B7D9-D6CE4E3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603-B385-49F3-976F-18E13E2FA9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AC6-B396-4A2D-B28C-91AEFA7EA6D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1731-4F5A-4599-BEDA-F37EA089680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AD3-F659-48B9-9FA9-CC1FAE53251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EA0B-6792-4892-B570-EA7DCA713E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onitnuous Improvemnt (desktop)\Anthem\End of yearan.xl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itnuous Improvemnt (desktop)\Legend Springs\11-12CIPls.xl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mprovement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No Teacher Left Beh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mprovement is a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he last three year we have been working to move from a piece of paper to a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is on-going with making changes within short cycles during the ye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requires the school to monitor both student results and implementation of improvement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mprovement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s year’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xt year’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plan with goals, strategies, measurements, professional development goals based on gaps and 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logues related to alignment, leadership structures, progress monitoring, professional development, end of year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plan with goals, strategies, measurements, professional development goals based on gaps and 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CIT Action Step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logues related to action steps, school wide PDSA, progress monitoring, professional development, end of year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Understanding conn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Diagram 13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End of the year monitor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CIP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nts to Pon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 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Rub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aring Think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ise’s Team / Trevor’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a’s Team / Lynda’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44:30Z</dcterms:created>
  <dc:creator>Debra Webb</dc:creator>
  <dc:description/>
  <dc:language>en-US</dc:language>
  <cp:lastModifiedBy>Debra Webb</cp:lastModifiedBy>
  <dcterms:modified xsi:type="dcterms:W3CDTF">2011-05-02T21:11:37Z</dcterms:modified>
  <cp:revision>13</cp:revision>
  <dc:subject/>
  <dc:title>Improvement </dc:title>
</cp:coreProperties>
</file>